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82E-5F55-4718-B279-8F75096F963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85D3-E36F-46FE-AFEF-87EC7895253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759-50BC-40F2-8300-3F2FB62F134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C35-3F5E-4631-9D73-238DA4F25A3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DEA4-84E7-4306-8A88-23381981259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B299-E2FF-4DC9-9CA5-5BE2E153087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AC6-25E6-4201-9FDF-4393A9C5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BCC-B1D6-4166-B459-76DF2613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220-68AD-4BAF-888E-E03A825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66D-778A-4E4C-A87C-41DF0965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2C3-4514-4DEA-AA81-D8923019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803-7661-4DCE-A302-68880D2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3FD-BC50-43A6-B4F0-B2C0364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A8A1-41FE-4652-8C3D-B413BCE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E32F-7FD5-4F85-BE09-EFC37328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D28C-96A9-47CC-A295-F1C8A1F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7146-134C-4799-923F-CC9AFA4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66C-CC76-448B-B7C8-A6D4233B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8C5-8CEA-47CE-BCA0-86166D4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E183-96FE-4E0D-8DA8-B8F8D83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3C6F-E7CF-41F4-A0D2-C55164F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29A-EB15-439D-984C-98CEB57E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45E6-C0C0-49AA-8C4B-88E131E7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A2B-5C85-4FA7-A554-A9BC30F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E85-FA23-40D3-97E9-135A43B3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B6C-99A4-427A-A68F-38FCE9A4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5F4-560E-45C0-94F0-1D4065CC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B54-F659-4A3E-BEFD-DF3E4F2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7B5-A5E4-422B-965E-DD3953E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64A-A475-4FB4-9D06-9DAB8C8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C62F-ACFE-4AD9-B5BA-9C4A8A038C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03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1033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" name="Group 1034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35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036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" name="Freeform 1037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038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" name="Freeform 1039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" name="Freeform 1040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" name="Freeform 1041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" name="Freeform 1042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" name="Freeform 1043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" name="Freeform 1044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" name="Freeform 1045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" name="Freeform 1046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" name="Freeform 1047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" name="Freeform 1048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" name="Freeform 1049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" name="Freeform 1050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" name="Freeform 1051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" name="Freeform 1052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" name="Freeform 1053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" name="Freeform 1054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" name="Freeform 1055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" name="Freeform 1056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" name="Freeform 1057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" name="Freeform 1058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" name="Freeform 1059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" name="Freeform 1060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" name="Freeform 1061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" name="Freeform 1062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" name="Freeform 1063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" name="Freeform 1064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" name="Freeform 1065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" name="Freeform 1066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" name="Freeform 1067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" name="Freeform 1068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" name="Freeform 1069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" name="Freeform 1070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" name="Freeform 1071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" name="Freeform 1072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1073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" name="Freeform 1074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Freeform 1075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" name="Freeform 1076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1077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" name="Freeform 1078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" name="Freeform 1079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" name="Freeform 1080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Freeform 1081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" name="Freeform 1082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" name="Freeform 1083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" name="Freeform 1084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" name="Freeform 1085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" name="Freeform 1086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" name="Freeform 1087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Freeform 1088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" name="Freeform 1089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" name="Freeform 1090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" name="Freeform 1091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" name="Group 1092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1093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Freeform 1094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" name="Freeform 1095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" name="Freeform 1096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" name="Freeform 1097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" name="Freeform 1098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" name="Freeform 1099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" name="Freeform 1100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Freeform 1101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" name="Freeform 1102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" name="Freeform 1103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" name="Freeform 1104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" name="Freeform 1105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" name="Freeform 1106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Freeform 1107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Freeform 1108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" name="Freeform 1109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" name="Freeform 1110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" name="Freeform 1111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6" name="Freeform 1112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7" name="Freeform 1113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Freeform 1114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" name="Freeform 1115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1116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" name="Freeform 1117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" name="Freeform 1118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" name="Freeform 1119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Freeform 1120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5" name="Freeform 1121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6" name="Freeform 1122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7" name="Freeform 1123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8" name="Freeform 1124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" name="Freeform 1125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126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" name="Freeform 1127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" name="Freeform 1128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" name="Freeform 1129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4" name="Freeform 1130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5" name="Freeform 1131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6" name="Freeform 1132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" name="Freeform 1133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" name="Freeform 1134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9" name="Group 1135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36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Line 1137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Line 1138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Line 1139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Line 1140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Line 1141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Line 1142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Line 1143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Line 1144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Line 1145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Line 1146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Line 1147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Line 1148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Line 1149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" name="Line 1150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Line 1151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Line 1152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Line 1153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Line 1154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Line 1155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Line 1156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" name="Group 1157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158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Line 1159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Line 1160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Line 1161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Line 1162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" name="Line 1163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" name="Line 1164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" name="Line 1165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" name="Line 1166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Line 1167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Line 1168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Line 1169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170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Line 1171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Line 1172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Line 1173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Line 1174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Line 1175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Line 1176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Line 1177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Line 1178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Line 1179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Line 1180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Line 1181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Line 1182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57" name="Picture 1183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B842-90C3-4DB6-A5F4-E4E68B9D8A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tpusk-info.ru/images/geo-rus/00023.jpg" TargetMode="External"/><Relationship Id="rId2" Type="http://schemas.openxmlformats.org/officeDocument/2006/relationships/hyperlink" Target="http://ecoportal.su/images/news/62865.jpg" TargetMode="External"/><Relationship Id="rId3" Type="http://schemas.openxmlformats.org/officeDocument/2006/relationships/hyperlink" Target="http://siberiantimes.com/PICTURES/ECOLOGY/Amur-Bay-pollution/inside_oil_film.jpg" TargetMode="External"/><Relationship Id="rId4" Type="http://schemas.openxmlformats.org/officeDocument/2006/relationships/hyperlink" Target="http://content.gorky.tv/media/posts/2014/02/09/3968634b6ef50a9bad5f3719b66923b7__700x420.jpg" TargetMode="External"/><Relationship Id="rId5" Type="http://schemas.openxmlformats.org/officeDocument/2006/relationships/hyperlink" Target="https://upload.wikimedia.org/wikipedia/commons/3/31/Vladivostok_industry.jpg" TargetMode="External"/><Relationship Id="rId6" Type="http://schemas.openxmlformats.org/officeDocument/2006/relationships/hyperlink" Target="https://im0-tub-ru.yandex.net/i?id=e571afad8c0e9df1f98e5b44df8f1fd1&amp;n=13" TargetMode="External"/><Relationship Id="rId7" Type="http://schemas.openxmlformats.org/officeDocument/2006/relationships/hyperlink" Target="https://im0-tub-ru.yandex.net/i?id=762c4768f844ef6598dfb690c0fe4600&amp;n=13" TargetMode="External"/><Relationship Id="rId8" Type="http://schemas.openxmlformats.org/officeDocument/2006/relationships/hyperlink" Target="http://www.da-voda.com/files/musor.jpg" TargetMode="External"/><Relationship Id="rId9" Type="http://schemas.openxmlformats.org/officeDocument/2006/relationships/hyperlink" Target="http://www.2fons.ru/pic/201406/2560x1600/2fons.ru-24799.jpg" TargetMode="External"/><Relationship Id="rId10" Type="http://schemas.openxmlformats.org/officeDocument/2006/relationships/hyperlink" Target="https://unt.ua/upload/000/u1/c5/1b/za-nezakonnu-vyrubku-lisiv-karatymut-suvorishe-photo-big.jpg" TargetMode="External"/><Relationship Id="rId11" Type="http://schemas.openxmlformats.org/officeDocument/2006/relationships/hyperlink" Target="http://www.clinic-kalinin-ecoconnect.ru/image/izmg1.jpg" TargetMode="External"/><Relationship Id="rId12" Type="http://schemas.openxmlformats.org/officeDocument/2006/relationships/hyperlink" Target="https://arhivurokov.ru/multiurok/6/0/4/60456688232fe2804a1e8bf566b3b96e50ef9a38/img34.jpg" TargetMode="External"/><Relationship Id="rId13" Type="http://schemas.openxmlformats.org/officeDocument/2006/relationships/hyperlink" Target="http://dabi.ru/attachments/3373/2247/images/large.jpg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shisvobodno.ru/pictures/eco_dalnii_vostok_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287280" y="260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5" descr="Картинки по запросу приморский край герб"/>
          <p:cNvPicPr/>
          <p:nvPr/>
        </p:nvPicPr>
        <p:blipFill>
          <a:blip r:embed="rId1"/>
          <a:stretch/>
        </p:blipFill>
        <p:spPr>
          <a:xfrm>
            <a:off x="2700360" y="1557360"/>
            <a:ext cx="3240000" cy="3578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8"/>
          <p:cNvSpPr/>
          <p:nvPr/>
        </p:nvSpPr>
        <p:spPr>
          <a:xfrm>
            <a:off x="358920" y="8366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орского кр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51577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 презентацией  работали ученики Сош.№80, 5б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428472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уцевич А., Кузнецов Д., Белая Н., Северюгина К., Васюк Д., Чурикова 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79280" y="468468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усоросжигательный «Спецзавод №1» г Владивостока  утилизирует твёрдые бытовые отходы, жилищного фонда и предприятий города.  В результате сжигания  1 тонны твёрдых отходов, выделяется  столько же углекислого газа и до 8 м³ газообразных выбросов, которые содержат оксиды  азота, серы, соляной кислоты, тяжелые металлы (ртуть, кадмий, свинец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cture 4" descr="http://www.xn----7sbagejc4a0bbifhivc7d2h4b.xn--p1ai/sites/default/files/field/image/musor.jpg"/>
          <p:cNvPicPr/>
          <p:nvPr/>
        </p:nvPicPr>
        <p:blipFill>
          <a:blip r:embed="rId1"/>
          <a:stretch/>
        </p:blipFill>
        <p:spPr>
          <a:xfrm>
            <a:off x="1979640" y="981000"/>
            <a:ext cx="5472000" cy="35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324000" y="4797360"/>
            <a:ext cx="86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адивосток  один из самых автомобильных городов России. Количество автомашин сравнимо с количеством жи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городе каждый житель подвергается вредному воздействию выхлопных газов. Они содержат в себе элементы, которые вызывают легочные заболевания, иммунодефицит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6" name="Picture 7" descr="http://www.clinic-kalinin-ecoconnect.ru/image/izmg1.jpg"/>
          <p:cNvPicPr/>
          <p:nvPr/>
        </p:nvPicPr>
        <p:blipFill>
          <a:blip r:embed="rId1"/>
          <a:stretch/>
        </p:blipFill>
        <p:spPr>
          <a:xfrm>
            <a:off x="1692360" y="981000"/>
            <a:ext cx="5327640" cy="3646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179280" y="4941720"/>
            <a:ext cx="8785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 опасно для человека. Из почвы загрязнения и вредные соединения вымываются в открытые водоемы и грунтовые воды, которые использует человек для питья, попадают в растения и организм живот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Picture 2" descr="http://www.xn--90aaffrdhgf3abczq.xn--p1ai/tbkp/15.jpg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39355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3"/>
          <p:cNvSpPr/>
          <p:nvPr/>
        </p:nvSpPr>
        <p:spPr>
          <a:xfrm>
            <a:off x="3419640" y="1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79280" y="4653000"/>
            <a:ext cx="8640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почв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алки бытового и промышленного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имические удобр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 и газ,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одуманная производствен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Рисунок 3" descr="http://deita.ru/files/gallery/new/2012/05/30/0.77901800_1338342605_l.jpg"/>
          <p:cNvPicPr/>
          <p:nvPr/>
        </p:nvPicPr>
        <p:blipFill>
          <a:blip r:embed="rId1"/>
          <a:stretch/>
        </p:blipFill>
        <p:spPr>
          <a:xfrm>
            <a:off x="250920" y="98100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http://www.yarskonline.ru/upload_files/news/5895_1.jpg"/>
          <p:cNvPicPr/>
          <p:nvPr/>
        </p:nvPicPr>
        <p:blipFill>
          <a:blip r:embed="rId2"/>
          <a:stretch/>
        </p:blipFill>
        <p:spPr>
          <a:xfrm>
            <a:off x="4859280" y="981000"/>
            <a:ext cx="4118040" cy="338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250920" y="4869000"/>
            <a:ext cx="84978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тслужившие атомоходы  разделывают в г.Большой Камень на заводе «Звезда», после чего доставляют реакторные отсеки в ЗАТО Фокино. Здесь  они в бухтах Разбойник и Сысоева будут храниться 70 лет. Со временем реакторные отсеки разрушаются и радиоактивные отходы могут попасть в окружающую сред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C:\Documents and Settings\Andre\Application Data\Microsoft\Media Catalog\chernobyl_59.jpg"/>
          <p:cNvPicPr/>
          <p:nvPr/>
        </p:nvPicPr>
        <p:blipFill>
          <a:blip r:embed="rId1"/>
          <a:stretch/>
        </p:blipFill>
        <p:spPr>
          <a:xfrm>
            <a:off x="5435640" y="981000"/>
            <a:ext cx="3529080" cy="374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vostokmedia.com/files/gallery/new/2016/08/31/0.97348700_1472613379_l.jpg"/>
          <p:cNvPicPr/>
          <p:nvPr/>
        </p:nvPicPr>
        <p:blipFill>
          <a:blip r:embed="rId2"/>
          <a:stretch/>
        </p:blipFill>
        <p:spPr>
          <a:xfrm>
            <a:off x="108000" y="981000"/>
            <a:ext cx="5184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79280" y="4221000"/>
            <a:ext cx="896472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ыча полезных ископаемых и производственная деятельность  наносит большой урон окружающей сре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территории  Приморского края действуют крупные горно-обогатительные комбинаты:  «Энергомаш Бор» производит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б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Дальполиметалл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винец и цинк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Станум»-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ло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«Приморский  ГОК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вольфра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; «Ярославский ГОК»-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лавикошпатный концентра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иморском крае в крупных масштабах  добывают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угл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. На месторождений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цементных известняков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ает  «Спасскцемен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6" descr="http://images.aif.ru/006/662/2af4392e4a77352df2e7295b6a387664.jpg"/>
          <p:cNvPicPr/>
          <p:nvPr/>
        </p:nvPicPr>
        <p:blipFill>
          <a:blip r:embed="rId1"/>
          <a:stretch/>
        </p:blipFill>
        <p:spPr>
          <a:xfrm>
            <a:off x="4284720" y="98100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http://open.irkobl.ru/upload/iblock/dd1/dd174636ab10507a585e308a0eb83880.JPG"/>
          <p:cNvPicPr/>
          <p:nvPr/>
        </p:nvPicPr>
        <p:blipFill>
          <a:blip r:embed="rId2"/>
          <a:stretch/>
        </p:blipFill>
        <p:spPr>
          <a:xfrm>
            <a:off x="179280" y="90792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Picture 6" descr="Картинки по запросу фото кислотные дожди"/>
          <p:cNvPicPr/>
          <p:nvPr/>
        </p:nvPicPr>
        <p:blipFill>
          <a:blip r:embed="rId1"/>
          <a:stretch/>
        </p:blipFill>
        <p:spPr>
          <a:xfrm>
            <a:off x="684360" y="981000"/>
            <a:ext cx="7488000" cy="3240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250920" y="4221000"/>
            <a:ext cx="792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, газ и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395280" y="45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ромышленными выбросами в атмосферу попадают оксиды серы, азота, хлористого водорода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430200" y="5229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ислотные осадки проникают в почву и в водоемы. Из почвы пропадают питательные вещества. В озерах болеет и гибели ры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179280" y="5445000"/>
            <a:ext cx="8785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ихийные свалки бытового мусора отравляют почву, воду и воздух. Лишают среды обитания птиц и живот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Прямоугольник 6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7" descr="https://arhivurokov.ru/multiurok/6/0/4/60456688232fe2804a1e8bf566b3b96e50ef9a38/img34.jpg"/>
          <p:cNvPicPr/>
          <p:nvPr/>
        </p:nvPicPr>
        <p:blipFill>
          <a:blip r:embed="rId1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4896000" y="1628640"/>
            <a:ext cx="4248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уничтожения лес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убка л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рос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ничтожение  ле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6" descr="C:\Documents and Settings\Andre\Application Data\Microsoft\Media Catalog\WWFLUNGS_preview.jpg"/>
          <p:cNvPicPr/>
          <p:nvPr/>
        </p:nvPicPr>
        <p:blipFill>
          <a:blip r:embed="rId1"/>
          <a:stretch/>
        </p:blipFill>
        <p:spPr>
          <a:xfrm>
            <a:off x="250920" y="981000"/>
            <a:ext cx="4681440" cy="475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cuments and Settings\Andre\Application Data\Microsoft\Media Catalog\515efca7f61e.jpg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36734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1332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онтролируемая  вырубка ле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179280" y="4581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щадь лесов в Приморском крае 13,3 млн.га- 81% территории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апрещена рубка хвойной и лиственной древесные особо ценных пород (сосна корейская, кедр корейский, тис остроконечный, бархат амурский, орех маньчжурский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2015г выявлено 300 случай незаконных рубок лесных насаждений - 20 тысяч м³древесины, размер ущерба - 900 млн руб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55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3780000" y="981000"/>
            <a:ext cx="53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кологические проблемы любого региона всегда связаны с его природными условиями, и ресурсами, и их использовани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Приморье – уникальный и богатый по природным ресурсам и биологическому разнообразию регион Росс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юге Приморья расположены ценные охраняемые природные территории и акватории (морские заповедники Хасанского района, Сихотэ-Алинский, Уссурийский, Лазовский и др. заповедники) представляю-щие ценность не только для России и края,  но и для  всего ми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обходимо сделать все возможное, чтобы сохранить это богатство. Вопросы защиты окружающей среды и сохранения биологи-ческого разнообразия особенно остро встали  в последние годы в связи с увеличением темпов развития экономики в Примор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10" descr="http://maps-rf.ru/primorskij-kraj/images/karta-primorskogo-kraya.jpg"/>
          <p:cNvPicPr/>
          <p:nvPr/>
        </p:nvPicPr>
        <p:blipFill>
          <a:blip r:embed="rId1"/>
          <a:stretch/>
        </p:blipFill>
        <p:spPr>
          <a:xfrm>
            <a:off x="250920" y="1125360"/>
            <a:ext cx="3457440" cy="419580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0" descr="Картинки по запросу приморский край герб флаг"/>
          <p:cNvPicPr/>
          <p:nvPr/>
        </p:nvPicPr>
        <p:blipFill>
          <a:blip r:embed="rId2"/>
          <a:stretch/>
        </p:blipFill>
        <p:spPr>
          <a:xfrm>
            <a:off x="250920" y="1052640"/>
            <a:ext cx="1441440" cy="96192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6"/>
          <p:cNvSpPr/>
          <p:nvPr/>
        </p:nvSpPr>
        <p:spPr>
          <a:xfrm>
            <a:off x="108000" y="5373720"/>
            <a:ext cx="3959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Территория 165,9 тыс.кв.км. Из них 79,5%-леса,    9,8%-сельхозугодия, 2,4%-вода ,     8,3%-прочие земл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аселение 2236,2 тыс.че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орский кр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2"/>
          <p:cNvSpPr/>
          <p:nvPr/>
        </p:nvSpPr>
        <p:spPr>
          <a:xfrm>
            <a:off x="1116000" y="11592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08000" y="4797360"/>
            <a:ext cx="90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инство пожаров возникает в результате сельскохозяй-ственных палов, сжигания мусора, в местах пикников, во время сбора грибов, ягод и охоты, от брошенной горящей спички, непотушенной сигареты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Ежегодно от пожаров в Приморье погибает до 20 тыс. га. лес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Picture 7" descr="http://dabi.ru/attachments/3373/2247/images/large.jpg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4859280" y="83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4427640" y="1413000"/>
            <a:ext cx="460836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за безответственного истребления, тысячи видов растений, животных и морских обитателей уже навсегда исчезли  и сотни находятся на грани  вымира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коньерский отлов рыбы сет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8" descr="https://im0-tub-ru.yandex.net/i?id=9cc227ae5a80b6d7956331325cdbaf2c-l&amp;n=13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2749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http://krsk.sibnovosti.ru/pictures/0396/3759/v_zapovednike_stolby_vynuzhdeny_unichtozhat_brodyachih_sobak_thumb_main.jpg"/>
          <p:cNvPicPr/>
          <p:nvPr/>
        </p:nvPicPr>
        <p:blipFill>
          <a:blip r:embed="rId2"/>
          <a:stretch/>
        </p:blipFill>
        <p:spPr>
          <a:xfrm>
            <a:off x="3924360" y="4292640"/>
            <a:ext cx="4267080" cy="24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324000" y="1413000"/>
            <a:ext cx="87120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ретить слив неочищенных бытовых стоков  в водоем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вершенствовать очистные сооружения на предприятия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расходовать чистую воду напрасн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зрабатывать и внедрять источники энергии без топлив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спользование органических удобрений в сельском хозяйств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здавать экологически чистые автомоби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екратить неразрешённую вырубку деревье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месте вырубленных лесов сажать нов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силить контроль за сборами редких растений и охотой на редких животны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делять достаточно средств на устройство и поддержание заповедников и национальных парк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значать большие штрафы за выброс мусора в лесу и разведение костр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971640" y="836640"/>
            <a:ext cx="777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Comic Sans MS"/>
              </a:rPr>
              <a:t>Предложения по решению проблем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4"/>
          <p:cNvSpPr/>
          <p:nvPr/>
        </p:nvSpPr>
        <p:spPr>
          <a:xfrm>
            <a:off x="179280" y="1844640"/>
            <a:ext cx="86407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Лица, имеющие власть и распоряжающиеся ресурсами, должны: прекратить истощать имеющиеся природные ресурсы; совершенствовать очистные сооружения на промышленных предприятиях и транспорте; преумножать естественный зеленый слой плане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Правительство должно создать жесткие государственные законы и контролировать их выполнение, а в случае нарушения законов – наказание от штрафов до лишения своб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Каждый человек обязан заботиться об окружающей природе.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чнем с себя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2916360" y="1125360"/>
            <a:ext cx="243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2733120" y="40464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Использовали в рабо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250920" y="765000"/>
            <a:ext cx="813744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"/>
              </a:rPr>
              <a:t>http://otpusk-info.ru/images/geo-rus/00023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2"/>
              </a:rPr>
              <a:t>http://ecoportal.su/images/news/62865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3"/>
              </a:rPr>
              <a:t>http://siberiantimes.com/PICTURES/ECOLOGY/Amur-Bay-pollution/inside_oil_film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4"/>
              </a:rPr>
              <a:t>http://content.gorky.tv/media/posts/2014/02/09/3968634b6ef50a9bad5f3719b66923b7__700x42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5"/>
              </a:rPr>
              <a:t>https://upload.wikimedia.org/wikipedia/commons/3/31/Vladivostok_industry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6"/>
              </a:rPr>
              <a:t>https://im0-tub-ru.yandex.net/i?id=e571afad8c0e9df1f98e5b44df8f1fd1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7"/>
              </a:rPr>
              <a:t>https://im0-tub-ru.yandex.net/i?id=762c4768f844ef6598dfb690c0fe4600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8"/>
              </a:rPr>
              <a:t>http://www.da-voda.com/files/musor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9"/>
              </a:rPr>
              <a:t>http://www.2fons.ru/pic/201406/2560x1600/2fons.ru-24799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0"/>
              </a:rPr>
              <a:t>https://unt.ua/upload/000/u1/c5/1b/za-nezakonnu-vyrubku-lisiv-karatymut-suvorishe-photo-big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1"/>
              </a:rPr>
              <a:t>http://www.clinic-kalinin-ecoconnect.ru/image/izmg1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2"/>
              </a:rPr>
              <a:t>https://arhivurokov.ru/multiurok/6/0/4/60456688232fe2804a1e8bf566b3b96e50ef9a38/img3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3"/>
              </a:rPr>
              <a:t>http://dabi.ru/attachments/3373/2247/images/large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324000" y="981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mages.aif.ru/006/662/2af4392e4a77352df2e7295b6a38766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open.irkobl.ru/upload/iblock/dd1/dd174636ab10507a585e308a0eb8388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oreninform.ru/upload/iblock/5d5/09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.morenews.com.ua/2017/05/Brakonerstvo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krsk.sibnovosti.ru/pictures/0396/3759/v_zapovednike_stolby_vynuzhdeny_unichtozhat_brodyachih_sobak_thumb_main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5219640" y="981000"/>
            <a:ext cx="3168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грязнение воды сточными водами и бытовым мусором.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ки промышленных и сельскохозяйственных предприятий- 4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рской транспорт-3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дствия аварий нефтеналивных танкеров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2987640" y="18900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2" descr="http://primamedia.cdnvideo.ru/f/big/705/704658.jpg?d80b5cd14680eb96f3b53bd30a0efdfa"/>
          <p:cNvPicPr/>
          <p:nvPr/>
        </p:nvPicPr>
        <p:blipFill>
          <a:blip r:embed="rId1"/>
          <a:stretch/>
        </p:blipFill>
        <p:spPr>
          <a:xfrm>
            <a:off x="395280" y="1268280"/>
            <a:ext cx="452448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Мазутные пятна в Золотом Роге давно стали обыденностью , Фото с места события собственное"/>
          <p:cNvPicPr/>
          <p:nvPr/>
        </p:nvPicPr>
        <p:blipFill>
          <a:blip r:embed="rId1"/>
          <a:stretch/>
        </p:blipFill>
        <p:spPr>
          <a:xfrm>
            <a:off x="108000" y="1052640"/>
            <a:ext cx="4032360" cy="532908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3"/>
          <p:cNvSpPr/>
          <p:nvPr/>
        </p:nvSpPr>
        <p:spPr>
          <a:xfrm>
            <a:off x="4284720" y="907920"/>
            <a:ext cx="496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бухтах Японского моря находится большое количество не только постоянно действующих судов, но и большое количество затонувших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 длительном нахождении в морской воде корпуса судов  рас-падаются на части, выбрасывая в окружающую морскую среду  соединения тяжелых металлов, неизрасходованный запас горюче-смазочных материалов и химикатов. Которые накаплива-ются в морских организмах и по пищевой цепи в  итоге попадают в организм челове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611280" y="4365720"/>
            <a:ext cx="42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6"/>
          <p:cNvSpPr/>
          <p:nvPr/>
        </p:nvSpPr>
        <p:spPr>
          <a:xfrm>
            <a:off x="108000" y="4508640"/>
            <a:ext cx="903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новными источниками загрязнения являются города: Владивосток, Находка, Дальнегорск. Ежегодно в водные объекты Прим.края сбрасывается 600 млн. м3 сточных вод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них 97% сбрасывается в бухты и заливы Японского мор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иболее загрязненными пресноводными объектами являются  оз. Ханка и реки: Рудная, Раздольная, Раковка, Партизанская и д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6" descr="Картинки по запросу озеро ханка фото"/>
          <p:cNvPicPr/>
          <p:nvPr/>
        </p:nvPicPr>
        <p:blipFill>
          <a:blip r:embed="rId1"/>
          <a:stretch/>
        </p:blipFill>
        <p:spPr>
          <a:xfrm>
            <a:off x="1979640" y="981000"/>
            <a:ext cx="4840200" cy="34308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Прямоугольник 7"/>
          <p:cNvSpPr/>
          <p:nvPr/>
        </p:nvSpPr>
        <p:spPr>
          <a:xfrm>
            <a:off x="1476360" y="2205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з. Х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C:\Documents and Settings\Andre\Application Data\Microsoft\Media Catalog\img1277121652.jpg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743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Documents and Settings\Andre\Application Data\Microsoft\Media Catalog\54773_or.jpg"/>
          <p:cNvPicPr/>
          <p:nvPr/>
        </p:nvPicPr>
        <p:blipFill>
          <a:blip r:embed="rId2"/>
          <a:stretch/>
        </p:blipFill>
        <p:spPr>
          <a:xfrm>
            <a:off x="4572000" y="98100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179280" y="4869000"/>
            <a:ext cx="8785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Приморском крае 80% сбрасываемых сточных вод не подвергается  нормативной очистке. Неочищенные промыш-ленные и коммунально-бытовые сбросы содержат такие вредные вещества, как фосфор, цинк, фенолы, нефтепродукты медь и взвешенные частиц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Рисунок 5" descr="http://www.ewnc.org/files/images/2015-03-20_Kuban-Gavno_DSCN5464.jpg"/>
          <p:cNvPicPr/>
          <p:nvPr/>
        </p:nvPicPr>
        <p:blipFill>
          <a:blip r:embed="rId3"/>
          <a:stretch/>
        </p:blipFill>
        <p:spPr>
          <a:xfrm>
            <a:off x="179280" y="98100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4"/>
          <p:cNvSpPr/>
          <p:nvPr/>
        </p:nvSpPr>
        <p:spPr>
          <a:xfrm>
            <a:off x="3059280" y="189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08000" y="4653000"/>
            <a:ext cx="88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тмосферный воздух для человека –это жизнеобеспечивающая сре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дыхание загрязненного воздуха вызывает многие болезни в организме человека и животных. Через атмосферные осадки загрязнение попадает дальше: в поверхностные и подземные воды, почву, растительный покров зем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4"/>
          <p:cNvSpPr/>
          <p:nvPr/>
        </p:nvSpPr>
        <p:spPr>
          <a:xfrm>
            <a:off x="2916360" y="189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24000" y="4221000"/>
            <a:ext cx="8640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атмосфе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горание топлива и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 промышленными выбросами, особенно химических и нефтеперерабатывающих заво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хлопными газами автомоби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2" descr="C:\Documents and Settings\Andre\Application Data\Microsoft\Media Catalog\31615e9e578d019d022ba61d7b2.jpg"/>
          <p:cNvPicPr/>
          <p:nvPr/>
        </p:nvPicPr>
        <p:blipFill>
          <a:blip r:embed="rId1"/>
          <a:stretch/>
        </p:blipFill>
        <p:spPr>
          <a:xfrm>
            <a:off x="1619280" y="981000"/>
            <a:ext cx="587196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4"/>
          <p:cNvSpPr/>
          <p:nvPr/>
        </p:nvSpPr>
        <p:spPr>
          <a:xfrm>
            <a:off x="3348000" y="189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500720" y="1052640"/>
            <a:ext cx="453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морский край  является лидером по объёму вредных выбросов в атмосферу (25%) Дальнего Восто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кология Приморского края в наибольшей степени страдает из-за работы энергетических предприят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огие ТЭС работают на твёрдом и жидком топливе, что способствует повышению концентрации вредных веществ в выбросах в атмосфер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Рисунок 6" descr="Экология Дальнего Восто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59:49Z</dcterms:created>
  <dc:creator>Andre</dc:creator>
  <dc:description/>
  <dc:language>en-US</dc:language>
  <cp:lastModifiedBy>Школа</cp:lastModifiedBy>
  <dcterms:modified xsi:type="dcterms:W3CDTF">2017-11-26T10:23:54Z</dcterms:modified>
  <cp:revision>245</cp:revision>
  <dc:subject/>
  <dc:title>МОУ «Средняя общеобразовательная школа №1» города Энгельса Саратовской области</dc:title>
</cp:coreProperties>
</file>